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0A0-F502-4162-A767-A35D4024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493B-F6BD-45E7-9951-EF3EA66B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54B0-8CC7-40D3-8615-99859B10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05E7-E718-44E4-9970-77B08701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ADCD-0470-4FAB-8954-3F1F6C74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B39-415C-41BD-A42E-0DADD063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85C-9197-4B08-B093-904A53D8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B77-84D0-4566-8C80-22A07BDB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86D-2925-40D5-961A-D0E2F22F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1976-A3ED-4B3D-BBEC-44E6DA2C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2D0-A0E6-4142-8937-1DCA053F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2653-EF58-4136-BEFF-60121245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B23A-8EC1-420C-B619-ACD42E7DC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3645000"/>
            <a:ext cx="8026560" cy="17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редование гласных в корне слова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оценки за урок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карточки успеха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Домашнее задание (на выбор)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Times New Roman"/>
              </a:rPr>
              <a:t>А) Напиши, о каком ещё из семи чудес света ты знаешь. В рассказе употреби слова, где есть корни с чередованием гласных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0253f"/>
                </a:solidFill>
                <a:latin typeface="Times New Roman"/>
              </a:rPr>
              <a:t>Б)  Написать мини-сочинение «Готовлюсь к приходу гостей»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СПАСИБО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                              </a:t>
            </a: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ЗА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                                      </a:t>
            </a: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УРОК!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253f"/>
                </a:solidFill>
                <a:latin typeface="Times New Roman"/>
              </a:rPr>
              <a:t>                   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en-US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633240" y="2139840"/>
            <a:ext cx="82425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. Что изучает фонетика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2. Что вы можете сказать об     орфоэпии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3. Что такое тезис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4. Какое письмо мы называем поморфемным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</a:rPr>
              <a:t>5. Что мы называем морфемой?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324000" y="1920960"/>
            <a:ext cx="8740800" cy="3370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10253f"/>
                </a:solidFill>
                <a:latin typeface="Times New Roman"/>
              </a:rPr>
              <a:t>Что мы называем чередованием?</a:t>
            </a:r>
            <a:endParaRPr b="1" lang="en-US" sz="88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2"/>
          <a:stretch/>
        </p:blipFill>
        <p:spPr>
          <a:xfrm>
            <a:off x="42840" y="-1341360"/>
            <a:ext cx="8547120" cy="1609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24000" y="981000"/>
            <a:ext cx="8501040" cy="44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Если после корня – А,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В корне будет И всегда!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Вот пример, запоминай: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10253f"/>
                </a:solidFill>
                <a:latin typeface="Times New Roman"/>
              </a:rPr>
              <a:t>Ноги вытер? Вытирай! </a:t>
            </a: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3"/>
          <a:srcRect l="18315" t="48829" r="75728" b="45315"/>
          <a:stretch/>
        </p:blipFill>
        <p:spPr>
          <a:xfrm>
            <a:off x="8604360" y="404640"/>
            <a:ext cx="360360" cy="576360"/>
          </a:xfrm>
          <a:prstGeom prst="rect">
            <a:avLst/>
          </a:prstGeom>
          <a:ln w="0">
            <a:noFill/>
          </a:ln>
        </p:spPr>
      </p:pic>
      <p:pic>
        <p:nvPicPr>
          <p:cNvPr id="54" name="Заголовок 1" descr=""/>
          <p:cNvPicPr/>
          <p:nvPr/>
        </p:nvPicPr>
        <p:blipFill>
          <a:blip r:embed="rId4"/>
          <a:stretch/>
        </p:blipFill>
        <p:spPr>
          <a:xfrm>
            <a:off x="-252360" y="-603360"/>
            <a:ext cx="858996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2"/>
          <a:stretch/>
        </p:blipFill>
        <p:spPr>
          <a:xfrm>
            <a:off x="469800" y="-334800"/>
            <a:ext cx="8240760" cy="162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8360" y="40464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253f"/>
                </a:solidFill>
                <a:latin typeface="Times New Roman"/>
              </a:rPr>
              <a:t>1.Помочь усвоить новую тему нам поможет интересная девочка. А как её зовут, вы скажете, если будете внимательно слушать стихотворение.</a:t>
            </a:r>
            <a:endParaRPr b="1" lang="en-US" sz="2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Девочка очень аккуратная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Хорошо все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убирает,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Всю грязь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отдирает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Пыль везде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стирает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Шкафы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запирает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Так устает, что </a:t>
            </a:r>
            <a:r>
              <a:rPr b="1" lang="en-US" sz="2400" spc="-1" strike="noStrike" u="sng">
                <a:solidFill>
                  <a:srgbClr val="10253f"/>
                </a:solidFill>
                <a:uFillTx/>
                <a:latin typeface="Times New Roman"/>
              </a:rPr>
              <a:t>умирает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от усталости.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Но когда сердится, то говорит: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"Когда все уберу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Грязь отдеру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Надо пыль стереть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Шкафы запереть,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Не хочу! Я так устала, что могу умереть!"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10253f"/>
                </a:solidFill>
                <a:latin typeface="Times New Roman"/>
              </a:rPr>
              <a:t>Как зовут девочку? </a:t>
            </a: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0004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10253f"/>
                </a:solidFill>
                <a:uFillTx/>
                <a:latin typeface="Times New Roman"/>
              </a:rPr>
              <a:t>убирает,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8" name="Содержимое 2"/>
          <p:cNvSpPr/>
          <p:nvPr/>
        </p:nvSpPr>
        <p:spPr>
          <a:xfrm>
            <a:off x="214200" y="1285920"/>
            <a:ext cx="1008720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д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и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Девочку зовут ИР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5. Итоги урока. Рефлексия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С какой темой мы сегодня познаком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Чему мы с вами научили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Что понравилось, запомнилось на уроке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- Какие трудности возникли? Что получилось? Что не получилось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cp:keywords/>
  <dc:language>en-US</dc:language>
  <cp:lastModifiedBy>Пользователь</cp:lastModifiedBy>
  <dcterms:modified xsi:type="dcterms:W3CDTF">2001-12-31T22:11:25Z</dcterms:modified>
  <cp:revision>35</cp:revision>
  <dc:subject/>
  <dc:title>Правописание не с деепричастиями</dc:title>
</cp:coreProperties>
</file>